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C61B-A5C3-4840-B7FD-88F6B64B2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6A2A-6DBB-40CD-8E8F-09C3C5088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29D4-2C8F-4307-BA18-CBC690D8C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9C4D-FDD8-4C77-A2CE-2A536D149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F28E-9356-4BD2-ABE9-4147679FA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12C3-F165-4D25-B4BA-63E603155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D585-D429-48BD-BEDE-283B638B8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41BC-AD52-40B4-87EA-46788D44C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A169-3247-4B0C-B2F8-D07824C4E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80E2-7517-4EB3-B48B-118AB5DA6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A69C-8867-4350-9267-F50B8D5DE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AE61-6A19-4FCD-8247-280BB3EC1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47D2E-E5E7-4DEE-B4DC-92F4BC207D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86600" y="981000"/>
            <a:ext cx="541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Kristen ITC"/>
              </a:rPr>
              <a:t>Great is Your Faithful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956720" y="6165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785160" y="4191120"/>
            <a:ext cx="7573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Kristen ITC"/>
                <a:ea typeface="Times New Roman"/>
              </a:rPr>
              <a:t>Great is Your Faithfulness, O God my Fathe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Kristen ITC"/>
                <a:ea typeface="Times New Roman"/>
              </a:rPr>
              <a:t>You have fulfill all Your promise to m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Kristen ITC"/>
                <a:ea typeface="Times New Roman"/>
              </a:rPr>
              <a:t>You never fail and Your love is unchan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Kristen ITC"/>
                <a:ea typeface="Times New Roman"/>
              </a:rPr>
              <a:t>All You have been You for ever</a:t>
            </a:r>
            <a:r>
              <a:rPr b="0" lang="pl-PL" sz="2800" spc="-1" strike="noStrike">
                <a:solidFill>
                  <a:srgbClr val="bbe0e3"/>
                </a:solidFill>
                <a:latin typeface="Arial"/>
                <a:ea typeface="Times New Roman"/>
              </a:rPr>
              <a:t> </a:t>
            </a:r>
            <a:r>
              <a:rPr b="0" lang="pl-PL" sz="2800" spc="-1" strike="noStrike">
                <a:solidFill>
                  <a:srgbClr val="bbe0e3"/>
                </a:solidFill>
                <a:latin typeface="Kristen ITC"/>
                <a:ea typeface="Times New Roman"/>
              </a:rPr>
              <a:t>will</a:t>
            </a:r>
            <a:r>
              <a:rPr b="0" lang="en-US" sz="2800" spc="-1" strike="noStrike">
                <a:solidFill>
                  <a:srgbClr val="bbe0e3"/>
                </a:solidFill>
                <a:latin typeface="Kristen ITC"/>
                <a:ea typeface="Times New Roman"/>
              </a:rPr>
              <a:t> be.</a:t>
            </a:r>
            <a:r>
              <a:rPr b="0" lang="pl-PL" sz="2800" spc="-1" strike="noStrike">
                <a:solidFill>
                  <a:srgbClr val="bbe0e3"/>
                </a:solidFill>
                <a:latin typeface="Kristen IT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5000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156320" y="3192480"/>
            <a:ext cx="72230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Great is Your Faithfulnes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Great is Your Faithfuln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Morning by morning new mercies I se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All I have needed Your hand has provide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Great is Your faithfulness, Father, to 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6000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40000" y="4191120"/>
            <a:ext cx="7656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Kristen ITC"/>
                <a:ea typeface="Times New Roman"/>
              </a:rPr>
              <a:t>Summer and winter, springtime and harves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Kristen ITC"/>
                <a:ea typeface="Times New Roman"/>
              </a:rPr>
              <a:t>Sun, moon and stars in their courses abo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Kristen ITC"/>
                <a:ea typeface="Times New Roman"/>
              </a:rPr>
              <a:t>Join with all nature in eloquent wit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Kristen ITC"/>
                <a:ea typeface="Times New Roman"/>
              </a:rPr>
              <a:t>To Your great faithfulness, mercy and love.</a:t>
            </a:r>
            <a:r>
              <a:rPr b="0" lang="pl-PL" sz="2800" spc="-1" strike="noStrike">
                <a:solidFill>
                  <a:srgbClr val="bbe0e3"/>
                </a:solidFill>
                <a:latin typeface="Kristen ITC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1000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156320" y="3192480"/>
            <a:ext cx="72230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Great is Your Faithfulnes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Great is Your Faithfuln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Morning by morning new mercies I se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All I have needed Your hand has provide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Great is Your faithfulness, Father, to 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9000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80880" y="411480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Kristen ITC"/>
                <a:ea typeface="Times New Roman"/>
              </a:rPr>
              <a:t>Pardon for sin, and peace everlast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Kristen ITC"/>
                <a:ea typeface="Times New Roman"/>
              </a:rPr>
              <a:t>Your living presence to cheer and to guid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Kristen ITC"/>
                <a:ea typeface="Times New Roman"/>
              </a:rPr>
              <a:t>Strength for today and bright hope for tomorr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Kristen ITC"/>
                <a:ea typeface="Times New Roman"/>
              </a:rPr>
              <a:t>These are the blessing Your love will provide.</a:t>
            </a:r>
            <a:r>
              <a:rPr b="0" lang="pl-PL" sz="2800" spc="-1" strike="noStrike">
                <a:solidFill>
                  <a:srgbClr val="bbe0e3"/>
                </a:solidFill>
                <a:latin typeface="Kristen ITC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4000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156320" y="3192480"/>
            <a:ext cx="72230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Great is Your Faithfulnes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Great is Your Faithfuln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Morning by morning new mercies I se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All I have needed Your hand has provide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Great is Your faithfulness, Father, to 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4000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28T05:52:30Z</dcterms:created>
  <dc:creator>TrifonTrifonow</dc:creator>
  <dc:description/>
  <dc:language>en-US</dc:language>
  <cp:lastModifiedBy>TrifonTrifonow</cp:lastModifiedBy>
  <dcterms:modified xsi:type="dcterms:W3CDTF">2005-12-28T05:52:51Z</dcterms:modified>
  <cp:revision>1</cp:revision>
  <dc:subject/>
  <dc:title>Slide 1</dc:title>
</cp:coreProperties>
</file>